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9E5-AC16-42A6-B2DE-1FD4B2E0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C37-D79C-4CE6-8194-14D64696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EF592-1E6B-4911-ACFB-E09C9CF3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562C3-299D-4823-BA9A-CCF286CF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674FD-168F-494E-93F1-2B9EBD1B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11A2D-8D87-468E-8189-99A7445A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B2B80-5748-4721-B602-FA7E69C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483CF-0E49-4BE6-A1F2-C86D72A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60CFA-C1F2-4254-8CEC-34D90CD5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F4760-EF6C-4F2F-A107-3B01EBD8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B228B-37B1-4475-9EBC-CFBCDB37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DA505-EFD2-45B9-A5AC-C89CEB94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95A-12D0-4BF2-AF9F-6D8583CA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50242-214E-474F-9D98-AC90183B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64885-51A8-48E6-A855-DC6E6960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BDC8B-21C6-42C0-99EA-94F94F45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41692-5EE0-4B16-A70D-A97D0E6A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4C7E5-5EA4-495D-9611-33DF7BF1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B8148-E0D9-4EE0-B28F-0C9886F3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5F0A9-FCDE-472B-B289-C8663A4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9733A-61B7-4918-9597-C929FE95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F8DC1-C2D5-41DA-A95E-276F5E38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C61DB-3483-4C95-80E2-0F69A597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3F0-8988-42D7-9446-2DEE36BE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9DC21-6EFE-473B-8B06-A92B27AE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BF94-D33B-4237-93E7-43D20801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7BEB9-96BB-4376-9D53-8C1F8EFA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F8865-AF0F-4B41-952E-21F88937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5AC76-3E58-497D-BA1C-EAC5C011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EBD47-18D8-4DCA-9B1D-BF697D5C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2FE2F-71FC-4B4A-9A10-9138CA10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3BF46-F984-4840-BAA4-27A3C790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B151D-EAA5-4BBA-A1C3-B3D211A3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1E6A2-9105-42DB-9994-AC44E57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5619-A268-42BA-A21C-C312EFCF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9DAB1-F34F-4050-89CB-A462949D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0775F-9F44-429F-89A4-8288A6AD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0D92E-FA05-498A-BA2B-CA2F1D92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599A6-BFE3-4CD5-8D46-67E31CA0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EFEAB-1873-494F-96B4-5642A3B7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0BA3F-3ED6-4896-861C-A8269876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958A6-3B38-4583-B54A-E3419086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E7AFD-9098-48A1-B4ED-BAF838A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5A302-4539-4968-A53E-954BFD83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11A5D-C0F4-474B-B29E-2103C7F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C7E2-0460-4020-822A-57AAFA8E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9D92F-DB0D-4767-AC37-88FE6A4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08276-2059-46CF-8246-4C570CB4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EDF46-5B9A-4853-8F60-345716F1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4EC3D-48BD-4D5F-BD54-B24A93B7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9E1CF-F077-4178-B97E-60B44B01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8A28-7D10-4F5E-A515-C87B0813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23C1-8A67-4EAB-8280-615BFB67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8E4D-3260-42E0-AF87-65BDC1DB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1570-1FF0-4AC6-A5F6-4EC1A873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715E-9ED5-4405-B0E4-85F71C79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5D0-2E53-42A6-8666-4E877D76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4ADC-3DAC-470F-B1AD-EB38C29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63DD-314E-45F6-AFF9-ADDBAE4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BD88-5CE8-4DFA-A905-9758F453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0898-8F34-43B4-B547-CEBA70F8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376A-FF91-4921-8BDA-82E5BA51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D5F3-2D00-492D-B58A-E15F9D95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CA45-87D4-4B45-8562-D83D1F3D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B7E1-8B0B-4972-9148-D25EDDE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01D2-AD5C-42FB-A0C3-6F7B1947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258F-5538-4C4F-9D51-1D519050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E31-25DB-496B-AB13-4D84CEF6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5F58-44A8-4064-8019-D38D18D6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5055-2CE8-4494-B37B-69A73E3A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62BE-F91C-4CA9-ACBE-5E4E470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5F19-C7EB-4DDD-B526-92B7D43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DC8C-CAD5-42DB-8F41-5CB73404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2A47-10E3-459E-B16B-26A2484A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BD09-BE6C-47BB-B56C-0A4A6FC6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3544C-8DAD-4C62-A34B-301501AF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4326-E562-4491-A3A5-7D812343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D7AA9-0A02-4AAE-ABFB-E9AF3316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D94-24B8-48B5-833C-6F7C57D5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FBC2-D4FB-44E9-92DE-A855F1B7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583B-65EE-494C-8A6D-8D7AEBF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88C4-59D3-484E-8468-C728618E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6D53B-78DE-4394-B8A3-D8A6A5C4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1E93-A62E-4266-AF97-F0C8DF5D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BD34-96A9-4E7D-B34A-EEED83A5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86C58-F6C7-44F2-9230-A40E1A76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B264-CA00-427B-954F-13B3A2DA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617A-77F7-4F1E-A78E-22F5E085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2907-B9BD-42BF-9A31-1B639D7A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961-7551-49D3-A3A2-F824D594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17917-D2F5-4AED-8190-2E90F9B2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2DDDD-1ED4-4E70-8281-3EEE0A2C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66D0-D4DD-4747-AA7F-FF8713B9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1ED7-CD0A-4E82-9FCF-5083B78A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B8B25-63F0-4AAA-B9E6-C974B9AD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E9D3-8D9D-4FCF-A74C-A1B56FE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31C63-2FC9-4B85-B653-D146AF7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69BBF-10FD-4378-AE19-5B1253F6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E6DFF-2746-4774-8F74-0AEDF235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63B0-E897-46BF-85CB-ADBD41EE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87F-DB43-40C2-A048-8077F711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3CD37-4BE9-4FE1-A52A-CA246481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DC16E-1E51-4AAA-B64E-C6AAC9D6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056C0-94AF-4BC4-BB5D-AE77F25E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A38C8-11C9-42D3-93A0-456FF350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2848F-2F30-4B39-B086-40620565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468E-4BF1-40CC-9E14-783F4641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D0B16-2D2B-4368-A07D-890DBD7E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E563E-04E0-443F-A67D-84925D2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7878-FC2B-40A9-BE20-F028C84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894D3-27FA-4A2E-AC01-0B3212A6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211-B8DF-46FE-B160-A387866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06E91-E240-409F-940E-7831BC9E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0F1B-8C2E-4FCF-89B9-EDCC1A9E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0CE73-0D2D-4A18-B031-9961E13F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F0DC0-9577-4F51-99F2-62900BC9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39CA5-4199-4B3B-9A22-31766232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9F699-DEB3-4331-8E7D-AF14494F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EAA05-DFB4-4B81-8677-6E66841B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621F-39F1-471E-BCD8-C3D3E29D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6C1B-63D8-4318-810D-73AFCAC7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245F9-FF55-456B-901C-4138799D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209-2CA3-4122-8808-C084D162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1365E-0B12-4E40-B63A-28491CA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0B56-4765-42F6-8E0B-96F76A7F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EC8D-C18F-4448-B511-844BEC51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C6193-F498-47B9-A699-2EDFFA1C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D16D-19D3-4D4E-9499-771C5395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957D-60C6-441E-A5F2-2C087A2A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150C7-2DCC-4913-84B1-BDDBA299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B82DC-A5AD-48DC-8A5A-4B3CE06D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6A1EE-795B-421F-98E2-805A8140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FF44C-9D82-4629-B4AB-A49CFF9E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604-5B85-46F0-8289-F4DEFD30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1639-24EE-4F88-A194-C13B877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81643-2D7D-4E24-AD8B-7C33BEE6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6B3DA-1746-4977-BCE2-8CA3047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8D3B7-104A-40A4-87A1-4DBE8BBD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E5488-4275-4B5A-9534-65662F28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B31C7-44A9-4820-904E-2C3E1E92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E6727-E38D-4348-B599-46BC9608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D3696-8AF8-4ECD-A6E0-FC5B666F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C39AC-0AC8-48B3-9AEB-2693911B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FDBA0-F884-4E10-A309-495E0063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6BF2-3A33-4DB3-B311-5BBE4F77091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A765-9BA2-49D8-BB97-10F2C402CE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6C63-F775-4B8F-904A-CBD66B3C5CC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01E0-6710-42C9-8D92-A44F9B8916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59C-F60D-4587-B6CC-98F31B10B4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2854-78A2-48CF-BB12-ACCED5DADFE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BE08-18B4-4388-93D6-8D9F6173D3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CC52-DF87-47A1-AA20-C4EC4275F67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8005-BA1A-4671-B177-1EC3106E0C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2BED-1297-4D1C-8ED7-C4018E6E37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26AD-2AEB-4865-ACDD-75B75616C9E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3A21-C091-4AC1-A2A5-C5F9DB94A8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5 Pomôž mi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mi, Pane, krotký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viem sa stíšiť, pokor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pútaj moje pyšné 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vahou vyzbroj do boj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ôž nad hriechom zvíťaz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uč ma, Pane, tichý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ej sa vôli podriad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ríde úzkosť, skúšok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vráť mi mier a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a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ďačne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lebi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Ranenú dušu upokoj,</a:t>
            </a:r>
            <a:br>
              <a:rPr sz="46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obnov v nej sám ten obraz svoj.</a:t>
            </a:r>
            <a:br>
              <a:rPr sz="46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Ty moc máš, Kráľ si, Boh a Pán,</a:t>
            </a:r>
            <a:br>
              <a:rPr sz="46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život svoj z lásky rád ti dám,</a:t>
            </a:r>
            <a:br>
              <a:rPr sz="46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naveky chcem byť už len tvoj.</a:t>
            </a:r>
            <a:br>
              <a:rPr sz="4600"/>
            </a:br>
            <a:r>
              <a:rPr b="1" lang="sk-SK" sz="46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5T15:31:41Z</dcterms:modified>
  <cp:revision>21</cp:revision>
  <dc:subject/>
  <dc:title>Je veľký náš Pán, on slávy je Kráľ Nech do všetkých strán  spev vrúcnych znie chvál.</dc:title>
</cp:coreProperties>
</file>